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BDD-967B-4C5A-9E5B-59C7882E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FAC1-6D26-4654-97FB-07BDC2A9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2D8D-95B5-433E-9344-D4EA69866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16C8-66B3-4797-886E-5EEB00544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5054-B272-4A45-B9DE-BF66F889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92EA-7D41-46CD-8309-3937CB05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DD00-118A-499F-815A-4CBA1B7F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3FDC-6EBE-45B0-A013-3ED2328A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1854-2539-464F-BDC4-D645DA67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E981-7F4E-4CD4-86DA-7AE9BDB04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8FD1-0C20-4F2E-B665-6304B242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9AAB-0F74-483F-9769-8B0C5AF8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50A04-BB42-4C7F-8C6A-26F78873D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98040" y="63388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D2A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2971800"/>
            <a:ext cx="7696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6120" y="3041640"/>
            <a:ext cx="737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pare the Personnel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380880"/>
            <a:ext cx="80773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77480" y="298440"/>
            <a:ext cx="732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s of Personnel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9200" y="1235160"/>
            <a:ext cx="87804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 Troop preparednes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t strength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a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combatant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dier personnel read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s support (Health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nel Servic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45760" y="628488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D2A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457200"/>
            <a:ext cx="792504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48880" y="374760"/>
            <a:ext cx="732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s of Personnel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7640" y="1311120"/>
            <a:ext cx="6160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orale/Motivation/Tru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he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. 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629400" y="624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57200"/>
            <a:ext cx="76960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48880" y="374760"/>
            <a:ext cx="732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s of Personnel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-291600" y="1487520"/>
            <a:ext cx="8927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of course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of course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s/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ation of staff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exes (as requir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43000" y="533520"/>
            <a:ext cx="7086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0160" y="450720"/>
            <a:ext cx="635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rdination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5440" y="1665360"/>
            <a:ext cx="3947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ment S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M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W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2, 3, 4,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3120" y="1589040"/>
            <a:ext cx="377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RE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B/ES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FSG-Fi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M/WSM/M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sion Surge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l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19320" y="304920"/>
            <a:ext cx="708660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667880" y="457200"/>
            <a:ext cx="635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ordination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2560" y="1752480"/>
            <a:ext cx="30621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C S1/CDR/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 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 B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613560" y="6284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304920"/>
            <a:ext cx="7543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68400" y="222120"/>
            <a:ext cx="54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efing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6800" y="1055520"/>
            <a:ext cx="7247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orough as time permits (Reme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/3 – 2/3 ru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lit Brief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the commander needs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re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 (Sub-Units and staf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t unit strength with color: Green, Red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er and Bl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62120" y="380880"/>
            <a:ext cx="75438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68400" y="298440"/>
            <a:ext cx="54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efing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5720" y="1382760"/>
            <a:ext cx="835704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 of action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atr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/distinct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t criteria as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ative discussion of advanta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disadvantages of each 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s estimates vs. gain projections for each 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689880" y="6284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04920"/>
            <a:ext cx="784836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44720" y="298440"/>
            <a:ext cx="54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efing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920" y="1311120"/>
            <a:ext cx="8855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concerns from a personnel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problems – know how long they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o fix and what’s being done to fix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tell boss 90% of strength is okay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ways look for 10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33520" y="304920"/>
            <a:ext cx="78483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16120" y="298440"/>
            <a:ext cx="542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iefing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6440" y="1284120"/>
            <a:ext cx="77896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’t focus on tac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rrect solution, only degrees of favo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r uses staff estimates, personal knowledg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ethical considerations when deciding C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preparing Commander’s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ly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304920"/>
            <a:ext cx="74674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96800" y="365040"/>
            <a:ext cx="652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960" y="1512720"/>
            <a:ext cx="91116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:  Prepare the Personnel Estim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: Given a requirement to 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ersonnel Estimate and access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M 101-5 and FM 101-10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:  Prepare the Personnel Estimate to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basic concepts that guide preparation of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Estimate and define the contents and 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Personnel Estimate IAW FM 101-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M 101-10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143000" y="380880"/>
            <a:ext cx="731520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14160" y="450720"/>
            <a:ext cx="652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82800" y="1792440"/>
            <a:ext cx="92559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Prepare the Personnel Estim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itions: Given a requirement to prepare th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and access to FM 101-5 and FM 101-10-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: Prepare the Personnel Estimate to include def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concepts that guide preparation of the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and define the contents and uses of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Estimate IAW FM 101-5 and FM 101-10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43000" y="609480"/>
            <a:ext cx="70866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43480" y="579600"/>
            <a:ext cx="546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sonnel Est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46280" y="1992240"/>
            <a:ext cx="7483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rsonnel Estimate analyzes personnel and administrative factors on soldier and unit effectiveness as they affect accomplishment of the mis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90720" y="457200"/>
            <a:ext cx="71625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08040" y="457200"/>
            <a:ext cx="557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taff Estima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3320" y="1447920"/>
            <a:ext cx="701100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ually pertain to staff officer’s particular areas of inter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nclud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igence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stics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vil-military operations estim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-FSC, C-E, OPSEC, PSYOPS-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685800"/>
            <a:ext cx="739116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5560" y="685800"/>
            <a:ext cx="718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ff Officer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2520" y="1844640"/>
            <a:ext cx="8579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, without prejudice, fears or emo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with other staff offi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hang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horough as time perm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304920"/>
            <a:ext cx="81532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25720" y="347760"/>
            <a:ext cx="691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litary Decision-Mak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3040" y="1335240"/>
            <a:ext cx="4639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pt of 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of Actio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of Actio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of Action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rse of Action Appr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s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6320" y="304920"/>
            <a:ext cx="8991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60" y="546120"/>
            <a:ext cx="90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er and Staff Actions to Making and Execu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9640" y="1382760"/>
            <a:ext cx="463536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er’s Actions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s or deduces 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mission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ates 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 initial planning guid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er’s Estim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ing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ves plans/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2960" y="1382760"/>
            <a:ext cx="4244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1’s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liminary consideration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nel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personnel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hanges information within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enemy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our courses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tes personnel estim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personnel plans and P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ion of admin/log plans/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380880"/>
            <a:ext cx="81532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48880" y="374760"/>
            <a:ext cx="732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s of Personnel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-305280" y="1387440"/>
            <a:ext cx="10003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nel Estimate No.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: Maps, charts, or other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tuation and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Intelligence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the area of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my strengths and dis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my cap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09480" y="457200"/>
            <a:ext cx="762012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4360" y="450720"/>
            <a:ext cx="732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ents of Personnel Estim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6920" y="1311120"/>
            <a:ext cx="8872200" cy="47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 Tacti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sition of major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courses of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ed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 Logistics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 Civil-military operations (CMO)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22:33:43Z</dcterms:created>
  <dc:creator>mike.a.williams</dc:creator>
  <dc:description/>
  <dc:language>en-US</dc:language>
  <cp:lastModifiedBy>Administrator</cp:lastModifiedBy>
  <dcterms:modified xsi:type="dcterms:W3CDTF">2005-08-15T18:05:54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23991822</vt:r8>
  </property>
  <property fmtid="{D5CDD505-2E9C-101B-9397-08002B2CF9AE}" pid="3" name="_AuthorEmail">
    <vt:lpwstr>herbert.m.lenton@us.army.mil</vt:lpwstr>
  </property>
  <property fmtid="{D5CDD505-2E9C-101B-9397-08002B2CF9AE}" pid="4" name="_AuthorEmailDisplayName">
    <vt:lpwstr>Lenton, Herbert SFC</vt:lpwstr>
  </property>
  <property fmtid="{D5CDD505-2E9C-101B-9397-08002B2CF9AE}" pid="5" name="_EmailSubject">
    <vt:lpwstr>Personnel Estimate VGT's</vt:lpwstr>
  </property>
  <property fmtid="{D5CDD505-2E9C-101B-9397-08002B2CF9AE}" pid="6" name="_ReviewingToolsShownOnce">
    <vt:lpwstr/>
  </property>
</Properties>
</file>